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253-5027-4FEA-A4A0-72F1015D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CCF-5B08-491D-B80B-499CF87D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7462-8115-47E6-B0A5-E26783F1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36B2-39B1-4870-84B7-CC9AA4E3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EC60-7144-426E-8736-8D78E2DF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087F-B075-4C7C-8C07-9B5B595F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CB6F-48B1-4DBF-8A7D-CB95E6FD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3EA9-662D-4E8D-B726-0D54476A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655E-B579-4745-9C9E-AA038EF5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86E0-BD72-4071-8E8B-88332A6D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8E96-2C89-4908-BD24-764DE7AE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22BC-DF99-4AC8-8A24-53421735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F017-F38D-436F-BCFF-1C32AE14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CBA8-3230-4406-AA4B-3437CA31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50A4-26EA-497E-9FF6-185C7713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7CAF-4EA1-4BEE-8BFA-2E3A7F83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F2F3-CFC4-4A77-8128-CA7F2794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B0A4-2EBE-4409-B749-B16B4366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11F8-AC74-45BB-8ABC-EDF7FF9F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7E70-4F1E-4B5A-B884-1F520D11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E4B-9211-4F4A-9FB4-CAFF2CFC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7A1E-D8AF-4423-A475-1830A5D7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F19-546F-471B-99F8-FDB49EDB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06E4-F8C5-4FA8-B1CB-5863C2D6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3E2C-6327-405F-9913-0ADCB7AE9E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E435-2194-4F3D-BE16-8BC69B7C34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enttipaperi.pdf" TargetMode="External"/><Relationship Id="rId3" Type="http://schemas.openxmlformats.org/officeDocument/2006/relationships/hyperlink" Target="file:///tenttipaperi.pdf" TargetMode="External"/><Relationship Id="rId4" Type="http://schemas.openxmlformats.org/officeDocument/2006/relationships/hyperlink" Target="file:///tenttipaperi.pdf" TargetMode="External"/><Relationship Id="rId5" Type="http://schemas.openxmlformats.org/officeDocument/2006/relationships/hyperlink" Target="file:///lomake.xls" TargetMode="External"/><Relationship Id="rId6" Type="http://schemas.openxmlformats.org/officeDocument/2006/relationships/hyperlink" Target="file:///lomake.xls" TargetMode="External"/><Relationship Id="rId7" Type="http://schemas.openxmlformats.org/officeDocument/2006/relationships/hyperlink" Target="file:///lomake.xls" TargetMode="External"/><Relationship Id="rId8" Type="http://schemas.openxmlformats.org/officeDocument/2006/relationships/hyperlink" Target="file:///opiskelijalle.png" TargetMode="External"/><Relationship Id="rId9" Type="http://schemas.openxmlformats.org/officeDocument/2006/relationships/hyperlink" Target="file:///opiskelijalle.png" TargetMode="External"/><Relationship Id="rId10" Type="http://schemas.openxmlformats.org/officeDocument/2006/relationships/hyperlink" Target="file:///opiskelijalle.png" TargetMode="External"/><Relationship Id="rId11" Type="http://schemas.openxmlformats.org/officeDocument/2006/relationships/hyperlink" Target="file:///opiskelijalle.txt" TargetMode="External"/><Relationship Id="rId12" Type="http://schemas.openxmlformats.org/officeDocument/2006/relationships/hyperlink" Target="file:///pistehistogrammi.png" TargetMode="External"/><Relationship Id="rId13" Type="http://schemas.openxmlformats.org/officeDocument/2006/relationships/hyperlink" Target="file:///pistehistogrammi.png" TargetMode="External"/><Relationship Id="rId14" Type="http://schemas.openxmlformats.org/officeDocument/2006/relationships/hyperlink" Target="file:///pistehistogrammi.png" TargetMode="External"/><Relationship Id="rId15" Type="http://schemas.openxmlformats.org/officeDocument/2006/relationships/hyperlink" Target="file:///kurssipalaute_10.txt" TargetMode="External"/><Relationship Id="rId1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valintatehtävät arvioinnin välineenä matemaattispainotteisella massakurssil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ukka Parviainen, parvi@tkk.f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liopisto-opettaja, Informaatiotekniikan laborator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4365720"/>
            <a:ext cx="72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kTori. Espoo, 3.12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sält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pauksen esitte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imerkki monivalintalomakkeen automaattisesta tarkastamises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skustelun aiheit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almiita tietojärjestelmiä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valinnoilla tehtävän arvioinnin mielekkyy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pean tenttipalautteen hyödy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ttp://www.cis.hut.fi/Opinnot/T-61.3010/reflektori2007.sht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6D2-1A67-4323-8D95-D061B04CDC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pauksen esittel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nivalintatehtävät 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vioinnin välineenä 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temaattispainotteisella 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ssakurssilla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uosina 2006-2007 käytetty järjestelmä: “softaa”, sälää ja sählinkiä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C9CA-48BB-4203-AC7B-0E8F3B46A2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nivalintatehtävät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/B/C/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ikeita vastauksia 1-4 kp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iskelija valitsee korkeintaan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ikein = +1p, väärin = -0.5p, ei vastausta 0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B3A-59B0-4295-963D-D27AFA63DB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vioinnin välineenä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hdessä välikokeessa (18p) 14 monivalintaa, kokonaispisteet 0-12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aikkiaan välikoepisteistä 2/3, kokonaispisteistä 1/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atiin “hyvä” pistehajo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hteellisen positiivinen opiskelijapalau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7902-C048-49AA-8B8C-B5D09C66E6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temaattispainotteisella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-61.3010 Digitaalinen signaalinkäsittely ja suodatus (6 o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skuja puettu monivalintatehtäviks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ysytään lopputulosta, välivaihetta, tapaa ratkaista, termejä,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tkaisu suoraan, pudottamalla vääriä pois,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2EE-1F85-4DFD-9A74-54FEFFD00F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ssakurssilla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urssilla noin 350 ilmoittautumista, 250 suorittaja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urin osa S-osastol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andivaiheen loppukursse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ssa” -- Tietotekniikan käyttö tarkistuksessa ajallisesti ja työmääräisesti plus-miinus-nolla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714E-1BD3-4A69-8BC0-CB9E8D745A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imerkki monivalintalomakkeen automaattisesta tarkastamisest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ysymykset tenttipaperissa perinteisessä tenttitilaisuudessa 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[ #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pdf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iskelijan vastauspaperi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[ #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xls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kannattu ja käsitelty paperi 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[ #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png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iskelijalle lähtevä viesti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[ #txt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yypillinen pistehistogrammi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[ #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png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iskelijoiden antama kurssipalau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lveliko oppimisen mittaamista?”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[ #txt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B46-33B9-4B37-8E74-507F007F15F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eskustelu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yörä keksitty uudelleen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9.10.2007 opinnot.yleinen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ksi tenttien tarkistaminen vie kauan?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lmiita tietojärjestelmiä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nivalinnoilla tehtävän arvioinnin mielekkyy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pean tenttipalautteen hyödy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0B49-A10F-4B51-874C-BF44456F89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9:30:36Z</dcterms:created>
  <dc:creator>Jukka Parviainen</dc:creator>
  <dc:description/>
  <dc:language>en-US</dc:language>
  <cp:lastModifiedBy>Jukka Parviainen</cp:lastModifiedBy>
  <dcterms:modified xsi:type="dcterms:W3CDTF">2007-11-27T22:31:38Z</dcterms:modified>
  <cp:revision>12</cp:revision>
  <dc:subject/>
  <dc:title>Monivalintatehtävät arvioinnin välineenä matemaattispainotteisella massakurssilla</dc:title>
</cp:coreProperties>
</file>