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EDC-13FE-4468-A94B-D8879E76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6E8-7272-4D25-8B3B-B8EB7B54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5AF-CA33-43F8-BAA6-8CBFD199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C07-3A73-47C4-B9CC-0767CC1B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F582-D190-43A4-8167-069067FD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8A93-AD16-4D0E-B452-4A0C3179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70F4-3B54-4178-8529-6E350A2E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A504-7A86-4F73-944E-0F76916C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3410-3968-4656-A097-16BA366B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2F66-979E-4A85-B84E-D2447C76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AD44-C097-48BD-A2CF-65EBABC0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CB4-3877-445A-A6B1-F7856CC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06EF-AD1C-4E33-A779-91EE889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4D81-810E-46D9-87DA-C319936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7E65-A2AF-401A-9EBD-FB429BDF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D0C8-F72C-4C11-833A-8FCE63D5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5B9F-827B-4106-A599-E369EF73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A57-6864-4D8D-87B1-E99CE084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B5B-AEE3-47E0-826C-41164406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EB9-D7F8-491E-8526-F2877D49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34A-6901-4EE8-BAC0-96ED9CE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FAD-23F7-4AFA-B418-8FB6C13F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E1F-B73B-461E-A9D9-C41A04A7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D13-DB6F-47DD-A056-5C4018C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7365-4509-427F-B09D-9A93E87F0E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4BEE-9BF7-4268-B13C-18FD2F7A6F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enttipaperi.pdf" TargetMode="External"/><Relationship Id="rId3" Type="http://schemas.openxmlformats.org/officeDocument/2006/relationships/hyperlink" Target="file:///tenttipaperi.pdf" TargetMode="External"/><Relationship Id="rId4" Type="http://schemas.openxmlformats.org/officeDocument/2006/relationships/hyperlink" Target="file:///tenttipaperi.pdf" TargetMode="External"/><Relationship Id="rId5" Type="http://schemas.openxmlformats.org/officeDocument/2006/relationships/hyperlink" Target="file:///lomake.xls" TargetMode="External"/><Relationship Id="rId6" Type="http://schemas.openxmlformats.org/officeDocument/2006/relationships/hyperlink" Target="file:///lomake.xls" TargetMode="External"/><Relationship Id="rId7" Type="http://schemas.openxmlformats.org/officeDocument/2006/relationships/hyperlink" Target="file:///lomake.xls" TargetMode="External"/><Relationship Id="rId8" Type="http://schemas.openxmlformats.org/officeDocument/2006/relationships/hyperlink" Target="file:///opiskelijalle.png" TargetMode="External"/><Relationship Id="rId9" Type="http://schemas.openxmlformats.org/officeDocument/2006/relationships/hyperlink" Target="file:///opiskelijalle.png" TargetMode="External"/><Relationship Id="rId10" Type="http://schemas.openxmlformats.org/officeDocument/2006/relationships/hyperlink" Target="file:///opiskelijalle.png" TargetMode="External"/><Relationship Id="rId11" Type="http://schemas.openxmlformats.org/officeDocument/2006/relationships/hyperlink" Target="file:///opiskelijalle.txt" TargetMode="External"/><Relationship Id="rId12" Type="http://schemas.openxmlformats.org/officeDocument/2006/relationships/hyperlink" Target="file:///pistehistogrammi.png" TargetMode="External"/><Relationship Id="rId13" Type="http://schemas.openxmlformats.org/officeDocument/2006/relationships/hyperlink" Target="file:///pistehistogrammi.png" TargetMode="External"/><Relationship Id="rId14" Type="http://schemas.openxmlformats.org/officeDocument/2006/relationships/hyperlink" Target="file:///pistehistogrammi.png" TargetMode="External"/><Relationship Id="rId15" Type="http://schemas.openxmlformats.org/officeDocument/2006/relationships/hyperlink" Target="file:///kurssipalaute_10.txt" TargetMode="External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valintatehtävät arvioinnin välineenä matemaattispainotteisella massakurssi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kka Parviainen, parvi@tkk.f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liopisto-opettaja, Informaatiotekniikan laborato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365720"/>
            <a:ext cx="72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kTori. Espoo, 3.12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ält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pauksen esit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imerkki monivalintalomakkeen automaattisesta tarkastamise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skustelun aihei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lmiita tietojärjestelmiä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valinnoilla tehtävän arvioinnin mielekkyy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pean tenttipalautteen hyödy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www.cis.hut.fi/Opinnot/T-61.3010/reflektori2007.s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9AF-2FB0-4556-AA6A-51AB64EB2A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pauksen esitte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ivalintatehtävät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vioinnin välineenä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emaattispainotteisella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ssakurssill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uosina 2006-2007 käytetty järjestelmä: “softaa”, sälää ja sählinki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89C-5BF3-47E6-A339-BFB2CA618B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ivalintatehtävät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/B/C/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keita vastauksia 1-4 kp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 valitsee korkeintaan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kein = +1p, väärin = -0.5p, ei vastausta 0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C76-E93F-4727-BF9F-768F6DF40C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vioinnin välineenä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hdessä välikokeessa (18p) 14 monivalintaa, kokonaispisteet 0-12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aikkiaan välikoepisteistä 2/3, kokonaispisteistä 1/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atiin “hyvä” pistehajo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hteellisen positiivinen opiskelijapala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08E-5CC2-41AC-95FD-00B5720745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temaattispainotteisell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-61.3010 Digitaalinen signaalinkäsittely ja suodatus (6 o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skuja puettu monivalintatehtäviks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ysytään lopputulosta, välivaihetta, tapaa ratkaista, termejä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kaisu suoraan, pudottamalla vääriä pois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415-F1CC-4213-BB09-835D755F45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ssakurssilla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rssilla noin 350 ilmoittautumista, 250 suorittaja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urin osa S-osastol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andivaiheen loppukursse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ssa” -- Tietotekniikan käyttö tarkistuksessa ajallisesti ja työmääräisesti plus-miinus-nolla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102-B0DE-444B-8A19-FF66A34DD6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imerkki monivalintalomakkeen automaattisesta tarkastamises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ysymykset tenttipaperissa perinteisessä tenttitilaisuudessa 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[ #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df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n vastauspaper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[ #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xls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kannattu ja käsitelty paperi 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[ #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png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lle lähtevä viest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[ #txt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ypillinen pistehistogramm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[ #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png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oiden antama kurssipala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lveliko oppimisen mittaamista?”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[ #txt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2A0-FB6B-4D97-8DDC-FB08C6B33D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skustelu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yörä keksitty uudellee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9.10.2007 opinnot.yleine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ksi tenttien tarkistaminen vie kauan?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lmiita tietojärjestelmiä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ivalinnoilla tehtävän arvioinnin mielekkyy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pean tenttipalautteen hyödy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337-576A-44F5-854B-DD4327AC04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9:30:36Z</dcterms:created>
  <dc:creator>Jukka Parviainen</dc:creator>
  <dc:description/>
  <dc:language>en-US</dc:language>
  <cp:lastModifiedBy>Jukka Parviainen</cp:lastModifiedBy>
  <dcterms:modified xsi:type="dcterms:W3CDTF">2007-11-27T22:31:38Z</dcterms:modified>
  <cp:revision>12</cp:revision>
  <dc:subject/>
  <dc:title>Monivalintatehtävät arvioinnin välineenä matemaattispainotteisella massakurssilla</dc:title>
</cp:coreProperties>
</file>