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6EA-349E-4A42-B16A-5113BEBE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CE3-B2CE-4B70-8DC3-D318EF32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D78-59BB-4873-A372-1E481DC2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B53-D105-4A99-B0A0-68C6A36D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A71-0BC8-4527-B5F1-E58032A9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0AA-5741-434F-9691-AF3F3C23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BA4-058F-42B7-9B5E-50FB6470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7A4-39F1-4263-B7BC-78DD5D6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F4F-113F-4CDF-9177-ED677EF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1BB-C4DB-4392-A994-C7EE7EF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435-CF30-4B3B-839C-A3A6359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790-2F2A-4ECE-88AE-677C0AF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8EEE-0342-4B2D-B35F-630CAED9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earning Bayesian networks with lo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7.11.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Jarmo Korh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earning procedur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procedure LearnDefaul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Let Rows(D) </a:t>
            </a:r>
            <a:r>
              <a:rPr b="0" lang="fi-F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r = arg max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al(Pa)-rows(D)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(Rows(D)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r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core(Rows(D)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r})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(Rows(D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Rows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(D) </a:t>
            </a:r>
            <a:r>
              <a:rPr b="0" lang="fi-F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ws(D)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lgo1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5957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ore accurate models, no arbitrary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Fewer parameter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Better approx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mparison between table-based, default tables and decisio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mparison between MDL and BDe sc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Variations in algorithm parameters (e.g. priors for B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Approximately 15,000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hree know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Patient alarm in intensive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Hailfinder – model for summer h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surance – classify insuranc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ata generated by know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rror measure: entropy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D(P||Q) =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) log (P(x)/Q(x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P||Q) ≥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ent error (from network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sensible the independency assumptions w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sults (Alarm, M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kuva1" descr=""/>
          <p:cNvPicPr/>
          <p:nvPr/>
        </p:nvPicPr>
        <p:blipFill>
          <a:blip r:embed="rId1"/>
          <a:stretch/>
        </p:blipFill>
        <p:spPr>
          <a:xfrm>
            <a:off x="2070000" y="1725480"/>
            <a:ext cx="50022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sults (Alarm, normalis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kuva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343400" cy="2968560"/>
          </a:xfrm>
          <a:prstGeom prst="rect">
            <a:avLst/>
          </a:prstGeom>
          <a:ln w="0">
            <a:noFill/>
          </a:ln>
        </p:spPr>
      </p:pic>
      <p:pic>
        <p:nvPicPr>
          <p:cNvPr id="103" name="kuva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43400" cy="2871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86880" y="495288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BD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rror cur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Alarm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6720" y="495288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DL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rror cur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Alarm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any ways to represent the loc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here trees and default t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Local structure improves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Better models, because less arbitrary limits needed on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Less data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Improv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se global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se better CP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BNW consists of two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irected acyclic graph (DAG): the glob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onditional probability distributions (CP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PD can be encoded as a tabular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xponential in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Other representations for C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efaul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ocal C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66680" y="2057400"/>
          <a:ext cx="3810240" cy="146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381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705720" y="20574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30481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39625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51055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51055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24382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086600" y="3429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3505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324480" y="44197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44197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504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548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6640" y="548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2440" y="449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341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24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9624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91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503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06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earning Bayesian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ost research to learn global structure and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We can also learn the loc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ontext-specific independency (C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ontext: some assignment to variables in the network (d-separati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he global structure follows from lo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et of variables U, variable X, parents 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, parameter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in CPDs (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i|pa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x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(X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(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raining set 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= {u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,...,u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}, network 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i-FI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Scoring functions: M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inimum Descriptio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L for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L for CPD of X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otal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onditional entropy of X given Y: H(X|Y) = -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)log P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|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bits needed to encode the value of X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n we know Pa</a:t>
            </a:r>
            <a:r>
              <a:rPr b="0" lang="fi-F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kaava2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591080" cy="1150920"/>
          </a:xfrm>
          <a:prstGeom prst="rect">
            <a:avLst/>
          </a:prstGeom>
          <a:ln w="0">
            <a:noFill/>
          </a:ln>
        </p:spPr>
      </p:pic>
      <p:pic>
        <p:nvPicPr>
          <p:cNvPr id="76" name="kaava6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4973400" cy="1274760"/>
          </a:xfrm>
          <a:prstGeom prst="rect">
            <a:avLst/>
          </a:prstGeom>
          <a:ln w="0">
            <a:noFill/>
          </a:ln>
        </p:spPr>
      </p:pic>
      <p:pic>
        <p:nvPicPr>
          <p:cNvPr id="77" name="kaava3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4346640" cy="567000"/>
          </a:xfrm>
          <a:prstGeom prst="rect">
            <a:avLst/>
          </a:prstGeom>
          <a:ln w="0">
            <a:noFill/>
          </a:ln>
        </p:spPr>
      </p:pic>
      <p:pic>
        <p:nvPicPr>
          <p:cNvPr id="78" name="kaava4" descr=""/>
          <p:cNvPicPr/>
          <p:nvPr/>
        </p:nvPicPr>
        <p:blipFill>
          <a:blip r:embed="rId4"/>
          <a:stretch/>
        </p:blipFill>
        <p:spPr>
          <a:xfrm>
            <a:off x="4114800" y="5257800"/>
            <a:ext cx="457992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Scoring functions: B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qual to posteri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rob. that network is G</a:t>
            </a:r>
            <a:r>
              <a:rPr b="0" lang="fi-FI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, given the data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aximise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On large data sets, BDe and MDL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se Dirichlet priors to get closed for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kaava7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3943080" cy="414360"/>
          </a:xfrm>
          <a:prstGeom prst="rect">
            <a:avLst/>
          </a:prstGeom>
          <a:ln w="0">
            <a:noFill/>
          </a:ln>
        </p:spPr>
      </p:pic>
      <p:pic>
        <p:nvPicPr>
          <p:cNvPr id="82" name="kaava8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48006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o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ontext-specific independency (CS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(X|Z,c,Y)=P(X|Z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Partitions: group values of parent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Partition variables Y</a:t>
            </a:r>
            <a:r>
              <a:rPr b="0" lang="fi-FI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haracteristic random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aps each value of 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to the partition that contain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Partitions in different CPD: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efault tables: default row, other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ecision trees: paths to lea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earning Lo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coring: M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DL: Dl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local-struc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) = log ||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|| + log (||Pa</a:t>
            </a:r>
            <a:r>
              <a:rPr b="0" lang="fi-FI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|| over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 = |rows(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coring: B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AVE0004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69644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kaava9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5628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Learning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Greedy 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uccessor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dding an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removing an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reversing direction of an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need not recalculate everything for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procedure LearnNetwork(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et 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generate successors S={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-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n}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of 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score=max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(G) - score(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score &gt;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arg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re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(Δscore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i-FI" sz="1800" spc="-1" strike="noStrike" baseline="-25000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6:38:46Z</dcterms:created>
  <dc:creator>Jarmo Korhonen</dc:creator>
  <dc:description/>
  <dc:language>en-US</dc:language>
  <cp:lastModifiedBy>Jarmo Korhonen</cp:lastModifiedBy>
  <dcterms:modified xsi:type="dcterms:W3CDTF">2001-11-07T07:56:27Z</dcterms:modified>
  <cp:revision>143</cp:revision>
  <dc:subject/>
  <dc:title>Learning Bayesian networks with local structure</dc:title>
</cp:coreProperties>
</file>